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31.gif" ContentType="image/gif"/>
  <Override PartName="/ppt/media/image22.png" ContentType="image/png"/>
  <Override PartName="/ppt/media/image19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4.png" ContentType="image/png"/>
  <Override PartName="/ppt/media/chimes.wav" ContentType="audio/x-wav"/>
  <Override PartName="/ppt/media/image13.gif" ContentType="image/gif"/>
  <Override PartName="/ppt/media/image16.jpeg" ContentType="image/jpeg"/>
  <Override PartName="/ppt/media/image21.wmf" ContentType="image/x-wmf"/>
  <Override PartName="/ppt/media/image8.gif" ContentType="image/gif"/>
  <Override PartName="/ppt/media/image28.png" ContentType="image/png"/>
  <Override PartName="/ppt/media/image30.png" ContentType="image/png"/>
  <Override PartName="/ppt/media/image26.png" ContentType="image/png"/>
  <Override PartName="/ppt/media/image3.gif" ContentType="image/gif"/>
  <Override PartName="/ppt/media/The%20Microsoft%20Sound.wav" ContentType="audio/x-wav"/>
  <Override PartName="/ppt/media/image14.png" ContentType="image/png"/>
  <Override PartName="/ppt/media/image9.jpeg" ContentType="image/jpeg"/>
  <Override PartName="/ppt/media/image27.gif" ContentType="image/gif"/>
  <Override PartName="/ppt/media/image23.wmf" ContentType="image/x-wmf"/>
  <Override PartName="/ppt/media/image2.png" ContentType="image/png"/>
  <Override PartName="/ppt/media/image32.gif" ContentType="image/gif"/>
  <Override PartName="/ppt/media/image25.png" ContentType="image/png"/>
  <Override PartName="/ppt/media/image10.png" ContentType="image/png"/>
  <Override PartName="/ppt/media/image17.jpeg" ContentType="image/jpeg"/>
  <Override PartName="/ppt/media/image12.gif" ContentType="image/gif"/>
  <Override PartName="/ppt/media/image29.gif" ContentType="image/gif"/>
  <Override PartName="/ppt/media/image15.jpeg" ContentType="image/jpeg"/>
  <Override PartName="/ppt/media/image18.gif" ContentType="image/gif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FAB-EAE1-456A-91B8-14277FB8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1D7-D1DD-4756-9AB6-DF5E021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570-48E1-4BDA-AB0A-4E88AB54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CBD-2938-46EA-A32C-6FB377E6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E628-1EA0-4064-872F-3E7F1566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897-3235-4FFB-A639-42672BA1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3A05-49DE-4688-BB1F-78CE67E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330-B9CF-46E0-B09A-66825E36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BFD4-7DC9-41A1-857F-035A9B9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3451-6C53-49A9-A0A4-CB37590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82E9-2575-4121-90F6-D16A054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D6D-6B08-48C8-BFE7-32AB67CB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DF31-B66A-441F-9941-574934D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2E24-484A-4AC2-BCF4-336607FB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C33F-E722-4606-A71E-246D5172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0C6B-3E69-4B45-BA42-90E2FA47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B81-EABC-4C45-94E4-94C0A736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D4D-C46F-4C91-B571-EF261D8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A35-ACB5-4D99-AD3F-B02698FE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B88-70F7-406C-82B5-FA39DE20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644-9838-407E-96D8-F67E2F0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11D-1B7C-448A-8B94-8950263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6D8-CAF3-45FA-96A4-DA49F2C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42C-D324-40C9-83CB-4A2025B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289B-F354-4114-AC2E-7BC3785DE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6231-C53C-4080-B877-C5A1CEFF40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The%20Microsoft%20Sound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audio" Target="../media/The%20Microsoft%20Sound.wav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audio" Target="../media/The%20Microsoft%20Sou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audio" Target="../media/The%20Microsoft%20Sound.wav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audio" Target="../media/The%20Microsoft%20Sound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audio" Target="../media/The%20Microsoft%20Sou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audio" Target="../media/The%20Microsoft%20Sound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he%20Microsoft%20Sound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The%20Microsoft%20Sound.wav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audio" Target="../media/The%20Microsoft%20Sou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audio" Target="../media/The%20Microsoft%20Sound.wav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audio" Target="../media/The%20Microsoft%20Sou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audio" Target="../media/The%20Microsoft%20Sound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The%20Microsoft%20Sound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audio" Target="../media/The%20Microsoft%20Sou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zkoła Podstawowa nr 3 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 Ozim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53352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ÓJKA WIT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1520" y="236232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826920" y="3716280"/>
          <a:ext cx="74170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716280"/>
                    <a:ext cx="74170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Świetlica szkoln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349360"/>
          <a:ext cx="3816360" cy="29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381636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0360" y="2017800"/>
            <a:ext cx="445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Ulubione miejsce naszych uczni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zez 8 godzin dziennie mogą się bawić, rozwijać swoje zainteresowania, odrobić lekcje, pograć na komputer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" y="5867280"/>
            <a:ext cx="57056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Zabawa, nauka, rela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179440" cy="2013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ahoma"/>
              </a:rPr>
              <a:t>Biblioteka szkolna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osiada czytelnię multimedialn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rganizuje konkursy czytelnicze,lekcje biblioteczne, Dni Książki, ciekawe imprez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Poleca interesujące książki i czasopi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4859280" y="2349360"/>
          <a:ext cx="396072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349360"/>
                    <a:ext cx="3960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jęcia pozalekcyj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my dla naszych uczniów bogatą ofertę zaję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koło plastycz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ziennikarskie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tralne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muzycz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taneczne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udio Piosenki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językowe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tematyczne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ekologicz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gionalne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omputerow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 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304920"/>
            <a:ext cx="78487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po lekcjac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76920" y="5181480"/>
            <a:ext cx="259056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5003640" y="2133720"/>
          <a:ext cx="3816360" cy="28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133720"/>
                    <a:ext cx="381636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 txBox="1"/>
          <p:nvPr/>
        </p:nvSpPr>
        <p:spPr>
          <a:xfrm>
            <a:off x="0" y="4191120"/>
            <a:ext cx="4419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asi uczniowie odnoszą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iczne sukcesy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-304920" y="2133720"/>
            <a:ext cx="1619280" cy="1942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8" name="The%20Microsoft%20Sou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 txBox="1"/>
          <p:nvPr/>
        </p:nvSpPr>
        <p:spPr>
          <a:xfrm>
            <a:off x="0" y="457200"/>
            <a:ext cx="92203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90 % naszych uczniów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ubi swoją szkołę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715000" y="1905120"/>
            <a:ext cx="2590920" cy="2340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zystąpiliśmy do akcji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648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głosiliśmy swój udział w ogólnopolskiej akcj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zety Wyborczej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 hasł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zkoła z klasą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zez cały rok będziemy realizować zadania opatrzone hasł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zkoła dobrze uczy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każdego uczn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zkoła ocenia sprawiedliw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Szkoła uczy myśleć i rozumieć świ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zkoła rozwija społecznie ,uczy wrażliwoś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zkoła pomaga uwierzyć w siebie,tworzy dobry kli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zkoła przygotowuje do przyszłoś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647960" cy="774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2" name="The%20Microsoft%20Sou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79280" y="1916280"/>
          <a:ext cx="8785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16280"/>
                    <a:ext cx="8785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zy już jesteście przekonani, że warto zostać naszym uczniem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2438280"/>
            <a:ext cx="7543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zyjdżcie do na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52480" y="4876920"/>
            <a:ext cx="95256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010280" y="4114800"/>
            <a:ext cx="831960" cy="838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5" name="The%20Microsoft%20Sound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3399"/>
                </a:solidFill>
                <a:latin typeface="Tahoma"/>
              </a:rPr>
              <a:t>Szkoła Podstawowa nr 3</a:t>
            </a:r>
            <a:br>
              <a:rPr sz="4800"/>
            </a:br>
            <a:r>
              <a:rPr b="1" lang="pl-PL" sz="4800" spc="-1" strike="noStrike">
                <a:solidFill>
                  <a:srgbClr val="333399"/>
                </a:solidFill>
                <a:latin typeface="Tahoma"/>
              </a:rPr>
              <a:t>46-040 Ozimek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ahoma"/>
              </a:rPr>
              <a:t>Ul. Korczaka 1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ahoma"/>
              </a:rPr>
              <a:t>Tel./ fax </a:t>
            </a:r>
            <a:r>
              <a:rPr b="1" lang="pl-PL" sz="4400" spc="-1" strike="noStrike">
                <a:solidFill>
                  <a:srgbClr val="ff0000"/>
                </a:solidFill>
                <a:latin typeface="Tahoma"/>
              </a:rPr>
              <a:t>4 651 47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ahoma"/>
              </a:rPr>
              <a:t>Dyrektor szkoły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pl-PL" sz="3200" spc="-1" strike="noStrike">
                <a:solidFill>
                  <a:srgbClr val="333399"/>
                </a:solidFill>
                <a:latin typeface="Tahoma"/>
              </a:rPr>
              <a:t>mgr Teresa Czupryń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icedyrektor- mgr Krystyna Ciem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l-PL" sz="2400" spc="-1" strike="noStrike">
                <a:solidFill>
                  <a:srgbClr val="ffcf01"/>
                </a:solidFill>
                <a:latin typeface="Tahoma"/>
              </a:rPr>
              <a:t>do dyspozycji rodziców od 8.00 do 15.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e4a8"/>
                </a:solidFill>
                <a:latin typeface="Tahoma"/>
              </a:rPr>
              <a:t>Sekretariat szkoły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czynny od </a:t>
            </a:r>
            <a:r>
              <a:rPr b="1" lang="pl-PL" sz="2400" spc="-1" strike="noStrike">
                <a:solidFill>
                  <a:srgbClr val="00e4a8"/>
                </a:solidFill>
                <a:latin typeface="Tahoma"/>
              </a:rPr>
              <a:t>7.30 do 15.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5943600"/>
            <a:ext cx="6705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ZEKAMY NA WA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dissolve/>
    <p:sndAc>
      <p:stSnd>
        <p:snd r:embed="rId1" name="The%20Microsoft%20Sound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rodzy rodzice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cielibyśmy Was zachęcić abyście wybrali dla swoich dzieci właśni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i="1" lang="en-US" sz="2800" spc="-1" strike="noStrike">
                <a:solidFill>
                  <a:srgbClr val="333399"/>
                </a:solidFill>
                <a:latin typeface="Verdana"/>
              </a:rPr>
              <a:t>Trójkę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biecujemy dołożyć wszelkich starań aby Wasze dzieci polubiły swoją szkoł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635120" cy="189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219640" y="2637000"/>
          <a:ext cx="3745080" cy="33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2637000"/>
                    <a:ext cx="374508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dissolve/>
    <p:sndAc>
      <p:stSnd>
        <p:snd r:embed="rId4" name="The%20Microsoft%20Sou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owoczesna pod względem myśli pedagogicz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zyjazna dziec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nerska wobec rodzicó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Budująca prestiż nauczycie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9144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zja naszej szkoły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162920" y="3200400"/>
            <a:ext cx="1638360" cy="34686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sze atu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2637000"/>
          <a:ext cx="3527640" cy="26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37000"/>
                    <a:ext cx="352764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50920" y="2017800"/>
            <a:ext cx="510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oświadczona, twórcza i wysoko kwalifikowana kadra nauczyciels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Wdrażanie nowoczesnych metod nauczan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asze atut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5410080"/>
            <a:ext cx="2628720" cy="1143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uka języków obcych od klasy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ocząwszy od klasy I nasze dzieci uczą się języka angielski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ją również możliwość uczyć się języka niemieckiego jako języka ojczyst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8120" y="5715000"/>
            <a:ext cx="2724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4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auka językó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62520" cy="35589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2" name="The%20Microsoft%20Sound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ezy pozalekcyj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421000"/>
          <a:ext cx="424800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2480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16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Impact"/>
              </a:rPr>
              <a:t>Organizowane dla całego środowisk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styn rodzin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„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ma, Tata i 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2 dni niezapomnianych atrakcji i wspaniałej zabaw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mprezy pozalekcyj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91240" y="4648320"/>
            <a:ext cx="2552760" cy="25956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4" name="The%20Microsoft%20Sound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Kiermasz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Świąteczn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429000" y="167652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14 grudni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14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508880" y="0"/>
            <a:ext cx="1635120" cy="21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403280" y="2276640"/>
          <a:ext cx="6535800" cy="411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2276640"/>
                    <a:ext cx="653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dissolve/>
    <p:sndAc>
      <p:stSnd>
        <p:snd r:embed="rId7" name="The%20Microsoft%20Sound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ktywny udział rodziców w życiu szkoły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ch pomoc i praca na rzecz szkoły są bezcen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fiarnie pracują w Radzie Szkoły , trójkach klasowych i wszędzie tam gdzie są potrzeb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24280" cy="412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3" name="The%20Microsoft%20Sound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ownia komputerow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nowisk komputerowych, pracujących w sie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karka laserow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a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owisko komputerowe do indywidualnej p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80880"/>
            <a:ext cx="7696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asz atu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  <p:sndAc>
      <p:stSnd>
        <p:snd r:embed="rId3" name="The%20Microsoft%20Sou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6:18:15Z</dcterms:created>
  <dc:creator>Ciemny</dc:creator>
  <dc:description/>
  <dc:language>en-US</dc:language>
  <cp:lastModifiedBy>Roland</cp:lastModifiedBy>
  <dcterms:modified xsi:type="dcterms:W3CDTF">2002-12-13T07:44:45Z</dcterms:modified>
  <cp:revision>50</cp:revision>
  <dc:subject/>
  <dc:title>Szkoła Podstawowa nr 3  w Ozimku</dc:title>
</cp:coreProperties>
</file>